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D2F8-73E9-48DF-B676-D65A0D87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82A6-3818-4F69-AF2F-8D25E463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503-2AB7-4237-A213-18DC38DE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C72-7BE9-4B19-86D1-57E85476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398-2C3B-4E70-A1C7-7FED4355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CC9-84B6-4068-82B4-23F9EDF0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E2D-73E5-4949-A4E5-56591D4A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41B-7572-4558-92BF-BF0F9A50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EE1-48A6-4959-8EDF-55726B61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A04-40CF-45F4-A4E3-862D4306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DD9-3C16-425F-A5C2-91D250F3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3EA-9580-4F10-9E1E-BBBC5966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D0A-6A79-4A6C-A674-72338793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FA0-3793-4085-BBB9-1A54C60A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3431-E9C5-43CA-80FB-FC75FC212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elin Col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 Adi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son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 y t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ómo estas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no energ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s ellas?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6:10Z</dcterms:modified>
  <cp:revision>103</cp:revision>
  <dc:subject/>
  <dc:title>Profile</dc:title>
</cp:coreProperties>
</file>